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2.jpeg" ContentType="image/jpeg"/>
  <Override PartName="/ppt/media/image17.jpeg" ContentType="image/jpe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3419D-9D02-45D5-AAD2-D2DF0EC46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12A13-52D6-45CB-98A0-5D827D30E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09714-F54F-4DB9-B739-BDA6C67E4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51B62-72AE-4645-A46A-BEF89A169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3EF76-837D-4FD4-96B4-C5A237627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F27EE-BA06-4E29-961D-F63191BE1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5C13E-BBDE-4BF1-9714-623F5D415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3342F-0AD8-4F31-9366-F657234BB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98794-B759-403D-8B5D-BD22B234D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461A4-F8B9-4593-964A-CA79E32E9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8D0E7-40AF-4BF0-BE35-2782C8C0E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E45E7-1CDA-4BC8-AA3E-F3C279233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02014-19B7-4BC2-B7B8-37E0504067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hyperlink" Target="http://images.google.es/imgres?imgurl=http://moeys.net/wp-content/uploads/2007/08/scarf.jpg&amp;imgrefurl=http://www.moeys.net/tag/my-university-life/&amp;usg=__EtTv-p93PdanO23JB6bArKBKTlQ=&amp;h=640&amp;w=640&amp;sz=69&amp;hl=es&amp;start=1&amp;tbnid=lTAD48ogaG01nM:&amp;tbnh=137&amp;tbnw=137&amp;prev=/images%3Fq%3DSCARF%26gbv%3D2%26ndsp%3D20%26hl%3Des" TargetMode="External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314440" y="1068480"/>
            <a:ext cx="4515120" cy="4727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CLOTHES </a:t>
            </a:r>
            <a:endParaRPr b="0" lang="en-US" sz="6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AND</a:t>
            </a:r>
            <a:endParaRPr b="0" lang="en-US" sz="6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ACCESSORIES</a:t>
            </a:r>
            <a:endParaRPr b="0" lang="en-US" sz="6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916360" y="549360"/>
            <a:ext cx="4524120" cy="44575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470160" y="404640"/>
            <a:ext cx="604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6699"/>
                </a:solidFill>
                <a:latin typeface="Arial"/>
              </a:rPr>
              <a:t>9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18520" y="5300640"/>
            <a:ext cx="4700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6699"/>
                </a:solidFill>
                <a:latin typeface="Arial"/>
              </a:rPr>
              <a:t>SWEATER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1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6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79280" y="333360"/>
            <a:ext cx="5905440" cy="51436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7504920" y="765000"/>
            <a:ext cx="119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8000"/>
                </a:solidFill>
                <a:latin typeface="Arial"/>
              </a:rPr>
              <a:t>10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479240" y="5516640"/>
            <a:ext cx="3099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8000"/>
                </a:solidFill>
                <a:latin typeface="Arial"/>
              </a:rPr>
              <a:t>JACKE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971640" y="333360"/>
            <a:ext cx="5315040" cy="531504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7650360" y="696960"/>
            <a:ext cx="1028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99"/>
                </a:solidFill>
                <a:latin typeface="Arial"/>
              </a:rPr>
              <a:t>1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788720" y="5229360"/>
            <a:ext cx="3068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333399"/>
                </a:solidFill>
                <a:latin typeface="Arial"/>
              </a:rPr>
              <a:t>DRES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643280" y="1413000"/>
            <a:ext cx="4096080" cy="325728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827640" y="1197000"/>
            <a:ext cx="119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9900"/>
                </a:solidFill>
                <a:latin typeface="Arial"/>
              </a:rPr>
              <a:t>12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312920" y="3933720"/>
            <a:ext cx="3381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9900"/>
                </a:solidFill>
                <a:latin typeface="Arial"/>
              </a:rPr>
              <a:t>SHOE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5353200" cy="53532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6928560" y="981000"/>
            <a:ext cx="119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663300"/>
                </a:solidFill>
                <a:latin typeface="Arial"/>
              </a:rPr>
              <a:t>13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05440" y="5229360"/>
            <a:ext cx="4803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663300"/>
                </a:solidFill>
                <a:latin typeface="Arial"/>
              </a:rPr>
              <a:t>TRAINER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324000" y="-819000"/>
            <a:ext cx="5676840" cy="567684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735480" y="4799160"/>
            <a:ext cx="119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Arial"/>
              </a:rPr>
              <a:t>14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205080" y="3789360"/>
            <a:ext cx="5007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Arial"/>
              </a:rPr>
              <a:t>BRACELE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3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3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3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3429000" y="0"/>
            <a:ext cx="571500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881280" y="119160"/>
            <a:ext cx="1113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990099"/>
                </a:solidFill>
                <a:latin typeface="Arial"/>
              </a:rPr>
              <a:t>1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973440" y="4653000"/>
            <a:ext cx="5107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990099"/>
                </a:solidFill>
                <a:latin typeface="Arial"/>
              </a:rPr>
              <a:t>NECKLAC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3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3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3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3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3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324000" y="1504800"/>
            <a:ext cx="4314600" cy="53532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6589440" y="3689280"/>
            <a:ext cx="1537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6699"/>
                </a:solidFill>
                <a:latin typeface="Arial"/>
              </a:rPr>
              <a:t>16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81080" y="189000"/>
            <a:ext cx="495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6699"/>
                </a:solidFill>
                <a:latin typeface="Arial"/>
              </a:rPr>
              <a:t>EARRING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0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27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28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29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3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3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3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3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2484360" y="549360"/>
            <a:ext cx="5143680" cy="3809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470520" y="1268280"/>
            <a:ext cx="1424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00"/>
                </a:solidFill>
                <a:latin typeface="Arial"/>
              </a:rPr>
              <a:t>1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348720" y="4797360"/>
            <a:ext cx="2689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00"/>
                </a:solidFill>
                <a:latin typeface="Arial"/>
              </a:rPr>
              <a:t>CAP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0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716360" y="260280"/>
            <a:ext cx="4221360" cy="482436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1384920" y="1414440"/>
            <a:ext cx="119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Arial"/>
              </a:rPr>
              <a:t>18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99280" y="5084640"/>
            <a:ext cx="7075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0000"/>
                </a:solidFill>
                <a:latin typeface="Arial"/>
              </a:rPr>
              <a:t>SUNGLASSE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0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403280" y="333360"/>
            <a:ext cx="3381480" cy="55054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469800" y="30312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705280" y="4297320"/>
            <a:ext cx="1621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0" spc="-1" strike="noStrike">
                <a:solidFill>
                  <a:srgbClr val="663300"/>
                </a:solidFill>
                <a:latin typeface="Arial"/>
              </a:rPr>
              <a:t>coa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-1324080"/>
            <a:ext cx="5353200" cy="53532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7146000" y="135000"/>
            <a:ext cx="1424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9900"/>
                </a:solidFill>
                <a:latin typeface="Arial"/>
              </a:rPr>
              <a:t>1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835080" y="3879720"/>
            <a:ext cx="2975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9900"/>
                </a:solidFill>
                <a:latin typeface="Arial"/>
              </a:rPr>
              <a:t>BELT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0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16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16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6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6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2857320" cy="285732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796000" y="476280"/>
            <a:ext cx="2813040" cy="281304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3996360" y="1268280"/>
            <a:ext cx="119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Arial"/>
              </a:rPr>
              <a:t>20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774520" y="3933720"/>
            <a:ext cx="3966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333399"/>
                </a:solidFill>
                <a:latin typeface="Arial"/>
              </a:rPr>
              <a:t>SCARF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0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3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3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3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5580000" y="692280"/>
            <a:ext cx="2857680" cy="407664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1095840" y="1270080"/>
            <a:ext cx="119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66"/>
                </a:solidFill>
                <a:latin typeface="Arial"/>
              </a:rPr>
              <a:t>21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83640" y="5013360"/>
            <a:ext cx="5435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0066"/>
                </a:solidFill>
                <a:latin typeface="Arial"/>
              </a:rPr>
              <a:t>HAIRBAND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0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4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5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700360" y="476280"/>
            <a:ext cx="5476680" cy="41050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096920" y="34596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32000" y="5300640"/>
            <a:ext cx="3490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333399"/>
                </a:solidFill>
                <a:latin typeface="Arial"/>
              </a:rPr>
              <a:t>T-SHIR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419640" y="476280"/>
            <a:ext cx="4572000" cy="4572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097280" y="270000"/>
            <a:ext cx="56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140360" y="5300640"/>
            <a:ext cx="338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99cc00"/>
                </a:solidFill>
                <a:latin typeface="Arial"/>
              </a:rPr>
              <a:t>BOOT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371680" y="676440"/>
            <a:ext cx="4400640" cy="55051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757800" y="907920"/>
            <a:ext cx="519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093080" y="450720"/>
            <a:ext cx="100800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0000"/>
                </a:solidFill>
                <a:latin typeface="Arial"/>
              </a:rPr>
              <a:t>HAT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0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5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700360" y="692280"/>
            <a:ext cx="4381560" cy="44290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881280" y="193680"/>
            <a:ext cx="604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1440" y="5229360"/>
            <a:ext cx="3126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Arial"/>
              </a:rPr>
              <a:t>JEAN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979640" y="620640"/>
            <a:ext cx="3571920" cy="53532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540720" y="765000"/>
            <a:ext cx="689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229440" y="5516640"/>
            <a:ext cx="2199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6699"/>
                </a:solidFill>
                <a:latin typeface="Arial"/>
              </a:rPr>
              <a:t>SKIR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195640" y="0"/>
            <a:ext cx="5352840" cy="5353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69440" y="1484280"/>
            <a:ext cx="689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557080" y="5229360"/>
            <a:ext cx="48380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TROUSER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8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543040" y="851040"/>
            <a:ext cx="5629320" cy="40305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613080" y="317520"/>
            <a:ext cx="604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919600" y="5229360"/>
            <a:ext cx="3734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ANDAL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" dur="3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7T10:43:01Z</dcterms:created>
  <dc:creator>profesor</dc:creator>
  <dc:description/>
  <dc:language>en-US</dc:language>
  <cp:lastModifiedBy>Profesor</cp:lastModifiedBy>
  <dcterms:modified xsi:type="dcterms:W3CDTF">2009-11-18T12:15:14Z</dcterms:modified>
  <cp:revision>3</cp:revision>
  <dc:subject/>
  <dc:title>Diapositiva 1</dc:title>
</cp:coreProperties>
</file>